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wmf" ContentType="image/x-wmf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7.png" ContentType="image/png"/>
  <Override PartName="/ppt/media/image37.png" ContentType="image/png"/>
  <Override PartName="/ppt/media/image43.png" ContentType="image/png"/>
  <Override PartName="/ppt/media/image55.png" ContentType="image/png"/>
  <Override PartName="/ppt/media/image45.jpeg" ContentType="image/jpeg"/>
  <Override PartName="/ppt/media/image44.png" ContentType="image/png"/>
  <Override PartName="/ppt/media/image46.wmf" ContentType="image/x-wmf"/>
  <Override PartName="/ppt/media/image47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4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5C9-F16B-4D1E-8E0A-E21624E9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E8C9-5290-487D-86C5-FF51756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AD36-73A6-4330-B05D-B18E68BD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12E-4CD2-4C4C-87B7-2AEE6FE3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FEFE-91BB-411E-9519-B3E7B98B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EF83-0E47-4343-83E6-8E48857C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7244-093F-4532-971E-D02B953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1396-44BD-4F0A-B056-F507425D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C985-9FF1-4BFF-9FA4-A7AC424C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1D50-E985-4D71-B548-7B21165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636A-3789-480D-A4FD-42B97275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9F7-7DFB-4C81-9D99-BAAEBCB2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5D89-E8E3-45EC-80DD-320BACB0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8224-BFF4-4412-93B6-C81B0AF5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9D2B-9307-45F8-8A1B-B4D0DCCD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7733-2B36-4401-9466-5ED27BF9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0E60-91F3-49E5-A881-A4ECF4D3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EA2-57D2-4DD1-9F75-F4D06903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98B-C4C1-4222-BC9D-CA74F48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25D-5AF7-4B55-B262-062FEAD9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875-E8F3-4965-8FD5-89437A90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023-E62A-48EB-9964-DF67CD60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901-E18E-44E5-B2E4-B3D6D38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D7B-521F-45BB-96F4-78D7461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5B52-14A2-417F-A18E-B1C4DE4E4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3550-C5D6-4B39-BBCB-92DD09ED6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6.png"/><Relationship Id="rId6" Type="http://schemas.openxmlformats.org/officeDocument/2006/relationships/image" Target="../media/image39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5.jpe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image" Target="../media/image45.jpeg"/><Relationship Id="rId7" Type="http://schemas.openxmlformats.org/officeDocument/2006/relationships/image" Target="../media/image45.jpeg"/><Relationship Id="rId8" Type="http://schemas.openxmlformats.org/officeDocument/2006/relationships/image" Target="../media/image45.jpeg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title" descr=""/>
          <p:cNvPicPr/>
          <p:nvPr/>
        </p:nvPicPr>
        <p:blipFill>
          <a:blip r:embed="rId1"/>
          <a:stretch/>
        </p:blipFill>
        <p:spPr>
          <a:xfrm>
            <a:off x="1066680" y="1806480"/>
            <a:ext cx="6782040" cy="5051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905120" y="457200"/>
            <a:ext cx="647676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eproduction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 rot="19380000">
            <a:off x="228240" y="228240"/>
            <a:ext cx="2895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u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en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ected during copulation for insertion into va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lation of arterioles causes the erectile tissue of penis become turg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cles of epididymis 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men is squeezed from the penis to the top of vag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ja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emale Reproductiv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female%20reproductive%20system%20f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87" name="female%20reproductive%20system%20f1" descr=""/>
          <p:cNvPicPr/>
          <p:nvPr/>
        </p:nvPicPr>
        <p:blipFill>
          <a:blip r:embed="rId2"/>
          <a:stretch/>
        </p:blipFill>
        <p:spPr>
          <a:xfrm>
            <a:off x="2666880" y="1219320"/>
            <a:ext cx="6477120" cy="5594400"/>
          </a:xfrm>
          <a:prstGeom prst="rect">
            <a:avLst/>
          </a:prstGeom>
          <a:ln w="0">
            <a:noFill/>
          </a:ln>
        </p:spPr>
      </p:pic>
      <p:pic>
        <p:nvPicPr>
          <p:cNvPr id="188" name="female%20reproductive%20system%20f2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89" name="female%20reproductive%20system%20f3" descr=""/>
          <p:cNvPicPr/>
          <p:nvPr/>
        </p:nvPicPr>
        <p:blipFill>
          <a:blip r:embed="rId4"/>
          <a:stretch/>
        </p:blipFill>
        <p:spPr>
          <a:xfrm>
            <a:off x="2666880" y="1219320"/>
            <a:ext cx="6477120" cy="5597280"/>
          </a:xfrm>
          <a:prstGeom prst="rect">
            <a:avLst/>
          </a:prstGeom>
          <a:ln w="0">
            <a:noFill/>
          </a:ln>
        </p:spPr>
      </p:pic>
      <p:pic>
        <p:nvPicPr>
          <p:cNvPr id="190" name="female%20reproductive%20system%20f3a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1" name="female%20reproductive%20system%20f4" descr=""/>
          <p:cNvPicPr/>
          <p:nvPr/>
        </p:nvPicPr>
        <p:blipFill>
          <a:blip r:embed="rId6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2" name="female%20reproductive%20system%20f5" descr=""/>
          <p:cNvPicPr/>
          <p:nvPr/>
        </p:nvPicPr>
        <p:blipFill>
          <a:blip r:embed="rId7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3" name="female%20reproductive%20system%20f6" descr=""/>
          <p:cNvPicPr/>
          <p:nvPr/>
        </p:nvPicPr>
        <p:blipFill>
          <a:blip r:embed="rId8"/>
          <a:stretch/>
        </p:blipFill>
        <p:spPr>
          <a:xfrm>
            <a:off x="2666880" y="1219320"/>
            <a:ext cx="6477120" cy="5594400"/>
          </a:xfrm>
          <a:prstGeom prst="rect">
            <a:avLst/>
          </a:prstGeom>
          <a:ln w="0">
            <a:noFill/>
          </a:ln>
        </p:spPr>
      </p:pic>
      <p:pic>
        <p:nvPicPr>
          <p:cNvPr id="194" name="female%20reproductive%20system%20f7" descr=""/>
          <p:cNvPicPr/>
          <p:nvPr/>
        </p:nvPicPr>
        <p:blipFill>
          <a:blip r:embed="rId9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5" name="female%20reproductive%20system%20f8" descr=""/>
          <p:cNvPicPr/>
          <p:nvPr/>
        </p:nvPicPr>
        <p:blipFill>
          <a:blip r:embed="rId10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6" name="female%20reproductive%20system%20f9" descr=""/>
          <p:cNvPicPr/>
          <p:nvPr/>
        </p:nvPicPr>
        <p:blipFill>
          <a:blip r:embed="rId11"/>
          <a:stretch/>
        </p:blipFill>
        <p:spPr>
          <a:xfrm>
            <a:off x="2666880" y="1219320"/>
            <a:ext cx="6477120" cy="5595840"/>
          </a:xfrm>
          <a:prstGeom prst="rect">
            <a:avLst/>
          </a:prstGeom>
          <a:ln w="0">
            <a:noFill/>
          </a:ln>
        </p:spPr>
      </p:pic>
      <p:pic>
        <p:nvPicPr>
          <p:cNvPr id="197" name="female%20reproductive%20system%20f10" descr=""/>
          <p:cNvPicPr/>
          <p:nvPr/>
        </p:nvPicPr>
        <p:blipFill>
          <a:blip r:embed="rId12"/>
          <a:stretch/>
        </p:blipFill>
        <p:spPr>
          <a:xfrm>
            <a:off x="2666880" y="1219320"/>
            <a:ext cx="6477120" cy="5594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49528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07" h="21600">
                <a:moveTo>
                  <a:pt x="24297" y="7301"/>
                </a:moveTo>
                <a:lnTo>
                  <a:pt x="25211" y="7301"/>
                </a:lnTo>
                <a:lnTo>
                  <a:pt x="25594" y="7667"/>
                </a:lnTo>
                <a:lnTo>
                  <a:pt x="34803" y="7667"/>
                </a:lnTo>
                <a:lnTo>
                  <a:pt x="35360" y="8224"/>
                </a:lnTo>
                <a:lnTo>
                  <a:pt x="35360" y="8772"/>
                </a:lnTo>
                <a:lnTo>
                  <a:pt x="37205" y="8772"/>
                </a:lnTo>
                <a:lnTo>
                  <a:pt x="37570" y="8224"/>
                </a:lnTo>
                <a:lnTo>
                  <a:pt x="38310" y="8224"/>
                </a:lnTo>
                <a:lnTo>
                  <a:pt x="38310" y="13376"/>
                </a:lnTo>
                <a:lnTo>
                  <a:pt x="37570" y="13376"/>
                </a:lnTo>
                <a:lnTo>
                  <a:pt x="37205" y="12828"/>
                </a:lnTo>
                <a:lnTo>
                  <a:pt x="35360" y="12828"/>
                </a:lnTo>
                <a:lnTo>
                  <a:pt x="35360" y="14107"/>
                </a:lnTo>
                <a:lnTo>
                  <a:pt x="25777" y="14107"/>
                </a:lnTo>
                <a:lnTo>
                  <a:pt x="25777" y="9877"/>
                </a:lnTo>
                <a:lnTo>
                  <a:pt x="25594" y="9877"/>
                </a:lnTo>
                <a:lnTo>
                  <a:pt x="25211" y="10243"/>
                </a:lnTo>
                <a:lnTo>
                  <a:pt x="24297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26708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58128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895480"/>
            <a:ext cx="12114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1295280"/>
            <a:ext cx="13636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i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209680"/>
            <a:ext cx="11350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2514600"/>
            <a:ext cx="990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600200"/>
            <a:ext cx="7621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4572000"/>
            <a:ext cx="33526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886200"/>
            <a:ext cx="3429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200400"/>
            <a:ext cx="32004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3794"/>
                </a:moveTo>
                <a:lnTo>
                  <a:pt x="29677" y="10800"/>
                </a:lnTo>
                <a:lnTo>
                  <a:pt x="1566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Ov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production of female gametes (ova/eg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production of female sex horm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10800"/>
                </a:moveTo>
                <a:lnTo>
                  <a:pt x="29677" y="3794"/>
                </a:lnTo>
                <a:lnTo>
                  <a:pt x="2967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idu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ies the ovum forwar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eating action of the cilia on its inner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raction of muscles of ovi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10800"/>
                </a:moveTo>
                <a:lnTo>
                  <a:pt x="29677" y="3794"/>
                </a:lnTo>
                <a:lnTo>
                  <a:pt x="2967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vu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lease of an ovum from an ov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7301"/>
                </a:moveTo>
                <a:lnTo>
                  <a:pt x="13847" y="7301"/>
                </a:lnTo>
                <a:lnTo>
                  <a:pt x="14230" y="7667"/>
                </a:lnTo>
                <a:lnTo>
                  <a:pt x="23439" y="7667"/>
                </a:lnTo>
                <a:lnTo>
                  <a:pt x="23996" y="8224"/>
                </a:lnTo>
                <a:lnTo>
                  <a:pt x="23996" y="8772"/>
                </a:lnTo>
                <a:lnTo>
                  <a:pt x="25841" y="8772"/>
                </a:lnTo>
                <a:lnTo>
                  <a:pt x="26207" y="8224"/>
                </a:lnTo>
                <a:lnTo>
                  <a:pt x="26946" y="8224"/>
                </a:lnTo>
                <a:lnTo>
                  <a:pt x="26946" y="13376"/>
                </a:lnTo>
                <a:lnTo>
                  <a:pt x="26207" y="13376"/>
                </a:lnTo>
                <a:lnTo>
                  <a:pt x="25841" y="12828"/>
                </a:lnTo>
                <a:lnTo>
                  <a:pt x="23996" y="12828"/>
                </a:lnTo>
                <a:lnTo>
                  <a:pt x="23996" y="14107"/>
                </a:lnTo>
                <a:lnTo>
                  <a:pt x="14413" y="14107"/>
                </a:lnTo>
                <a:lnTo>
                  <a:pt x="14413" y="9877"/>
                </a:lnTo>
                <a:lnTo>
                  <a:pt x="14230" y="9877"/>
                </a:lnTo>
                <a:lnTo>
                  <a:pt x="13847" y="10243"/>
                </a:lnTo>
                <a:lnTo>
                  <a:pt x="12933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5562720"/>
            <a:ext cx="1905120" cy="990360"/>
          </a:xfrm>
          <a:custGeom>
            <a:avLst/>
            <a:gdLst>
              <a:gd name="textAreaLeft" fmla="*/ 64080 w 1905120"/>
              <a:gd name="textAreaRight" fmla="*/ 1841040 w 19051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1544" h="21600">
                <a:moveTo>
                  <a:pt x="0" y="0"/>
                </a:moveTo>
                <a:lnTo>
                  <a:pt x="41544" y="0"/>
                </a:lnTo>
                <a:lnTo>
                  <a:pt x="41544" y="21600"/>
                </a:lnTo>
                <a:lnTo>
                  <a:pt x="0" y="21600"/>
                </a:lnTo>
                <a:close/>
              </a:path>
              <a:path fill="lightenLess" w="41544" h="21600">
                <a:moveTo>
                  <a:pt x="0" y="0"/>
                </a:moveTo>
                <a:lnTo>
                  <a:pt x="41544" y="0"/>
                </a:lnTo>
                <a:lnTo>
                  <a:pt x="40144" y="1400"/>
                </a:lnTo>
                <a:lnTo>
                  <a:pt x="1400" y="1400"/>
                </a:lnTo>
                <a:close/>
              </a:path>
              <a:path fill="darken" w="41544" h="21600">
                <a:moveTo>
                  <a:pt x="41544" y="0"/>
                </a:moveTo>
                <a:lnTo>
                  <a:pt x="41544" y="21600"/>
                </a:lnTo>
                <a:lnTo>
                  <a:pt x="40144" y="20200"/>
                </a:lnTo>
                <a:lnTo>
                  <a:pt x="40144" y="1400"/>
                </a:lnTo>
                <a:close/>
              </a:path>
              <a:path fill="darkenLess" w="41544" h="21600">
                <a:moveTo>
                  <a:pt x="41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44" y="20200"/>
                </a:lnTo>
                <a:close/>
              </a:path>
              <a:path fill="lighten" w="41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44" h="21600">
                <a:moveTo>
                  <a:pt x="13765" y="7301"/>
                </a:moveTo>
                <a:lnTo>
                  <a:pt x="14679" y="7301"/>
                </a:lnTo>
                <a:lnTo>
                  <a:pt x="15062" y="7667"/>
                </a:lnTo>
                <a:lnTo>
                  <a:pt x="24271" y="7667"/>
                </a:lnTo>
                <a:lnTo>
                  <a:pt x="24828" y="8224"/>
                </a:lnTo>
                <a:lnTo>
                  <a:pt x="24828" y="8772"/>
                </a:lnTo>
                <a:lnTo>
                  <a:pt x="26673" y="8772"/>
                </a:lnTo>
                <a:lnTo>
                  <a:pt x="27039" y="8224"/>
                </a:lnTo>
                <a:lnTo>
                  <a:pt x="27778" y="8224"/>
                </a:lnTo>
                <a:lnTo>
                  <a:pt x="27778" y="13376"/>
                </a:lnTo>
                <a:lnTo>
                  <a:pt x="27039" y="13376"/>
                </a:lnTo>
                <a:lnTo>
                  <a:pt x="26673" y="12828"/>
                </a:lnTo>
                <a:lnTo>
                  <a:pt x="24828" y="12828"/>
                </a:lnTo>
                <a:lnTo>
                  <a:pt x="24828" y="14107"/>
                </a:lnTo>
                <a:lnTo>
                  <a:pt x="15245" y="14107"/>
                </a:lnTo>
                <a:lnTo>
                  <a:pt x="15245" y="9877"/>
                </a:lnTo>
                <a:lnTo>
                  <a:pt x="15062" y="9877"/>
                </a:lnTo>
                <a:lnTo>
                  <a:pt x="14679" y="10243"/>
                </a:lnTo>
                <a:lnTo>
                  <a:pt x="13765" y="10243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deo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nstrual Cyc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in about 28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terine lining becomes thickened 14 days after ovulation to prepare for the fertilized ovum to implant in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hickness%20of%20uterine%20wall%203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3052800" cy="3809880"/>
          </a:xfrm>
          <a:prstGeom prst="rect">
            <a:avLst/>
          </a:prstGeom>
          <a:ln w="0">
            <a:noFill/>
          </a:ln>
        </p:spPr>
      </p:pic>
      <p:pic>
        <p:nvPicPr>
          <p:cNvPr id="223" name="thickness%20of%20uterine%20wall%202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nstrual Cyc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y 1 -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struation st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erine lining decreases in thickness to a mini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thickness%20of%20uterine%20wall%201" descr=""/>
          <p:cNvPicPr/>
          <p:nvPr/>
        </p:nvPicPr>
        <p:blipFill>
          <a:blip r:embed="rId3"/>
          <a:stretch/>
        </p:blipFill>
        <p:spPr>
          <a:xfrm>
            <a:off x="299880" y="3048120"/>
            <a:ext cx="1798920" cy="3809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5800" y="914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y 6 -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ing becomes thicker with increased bl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y 14 : ov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14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y 14 -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ing remains thick to ready for implantation of fertilized ov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9144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y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implantation of fertilization ov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erine lining breaks down; menstruation sta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thickness%20of%20uterine%20wall%204" descr=""/>
          <p:cNvPicPr/>
          <p:nvPr/>
        </p:nvPicPr>
        <p:blipFill>
          <a:blip r:embed="rId4"/>
          <a:stretch/>
        </p:blipFill>
        <p:spPr>
          <a:xfrm>
            <a:off x="7848720" y="3048120"/>
            <a:ext cx="1033200" cy="3809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095880" y="228600"/>
            <a:ext cx="2743200" cy="914400"/>
          </a:xfrm>
          <a:custGeom>
            <a:avLst/>
            <a:gdLst>
              <a:gd name="textAreaLeft" fmla="*/ 59040 w 2743200"/>
              <a:gd name="textAreaRight" fmla="*/ 2684160 w 2743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4783" h="21600">
                <a:moveTo>
                  <a:pt x="0" y="0"/>
                </a:moveTo>
                <a:lnTo>
                  <a:pt x="64783" y="0"/>
                </a:lnTo>
                <a:lnTo>
                  <a:pt x="64783" y="21600"/>
                </a:lnTo>
                <a:lnTo>
                  <a:pt x="0" y="21600"/>
                </a:lnTo>
                <a:close/>
              </a:path>
              <a:path fill="lightenLess" w="64783" h="21600">
                <a:moveTo>
                  <a:pt x="0" y="0"/>
                </a:moveTo>
                <a:lnTo>
                  <a:pt x="64783" y="0"/>
                </a:lnTo>
                <a:lnTo>
                  <a:pt x="63383" y="1400"/>
                </a:lnTo>
                <a:lnTo>
                  <a:pt x="1400" y="1400"/>
                </a:lnTo>
                <a:close/>
              </a:path>
              <a:path fill="darken" w="64783" h="21600">
                <a:moveTo>
                  <a:pt x="64783" y="0"/>
                </a:moveTo>
                <a:lnTo>
                  <a:pt x="64783" y="21600"/>
                </a:lnTo>
                <a:lnTo>
                  <a:pt x="63383" y="20200"/>
                </a:lnTo>
                <a:lnTo>
                  <a:pt x="63383" y="1400"/>
                </a:lnTo>
                <a:close/>
              </a:path>
              <a:path fill="darkenLess" w="64783" h="21600">
                <a:moveTo>
                  <a:pt x="64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3" y="20200"/>
                </a:lnTo>
                <a:close/>
              </a:path>
              <a:path fill="lighten" w="64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3" h="21600">
                <a:moveTo>
                  <a:pt x="25385" y="7301"/>
                </a:moveTo>
                <a:lnTo>
                  <a:pt x="26299" y="7301"/>
                </a:lnTo>
                <a:lnTo>
                  <a:pt x="26682" y="7667"/>
                </a:lnTo>
                <a:lnTo>
                  <a:pt x="35890" y="7667"/>
                </a:lnTo>
                <a:lnTo>
                  <a:pt x="36447" y="8224"/>
                </a:lnTo>
                <a:lnTo>
                  <a:pt x="36447" y="8772"/>
                </a:lnTo>
                <a:lnTo>
                  <a:pt x="38293" y="8772"/>
                </a:lnTo>
                <a:lnTo>
                  <a:pt x="38658" y="8224"/>
                </a:lnTo>
                <a:lnTo>
                  <a:pt x="39398" y="8224"/>
                </a:lnTo>
                <a:lnTo>
                  <a:pt x="39398" y="13376"/>
                </a:lnTo>
                <a:lnTo>
                  <a:pt x="38658" y="13376"/>
                </a:lnTo>
                <a:lnTo>
                  <a:pt x="38293" y="12828"/>
                </a:lnTo>
                <a:lnTo>
                  <a:pt x="36447" y="12828"/>
                </a:lnTo>
                <a:lnTo>
                  <a:pt x="36447" y="14107"/>
                </a:lnTo>
                <a:lnTo>
                  <a:pt x="26865" y="14107"/>
                </a:lnTo>
                <a:lnTo>
                  <a:pt x="26865" y="9877"/>
                </a:lnTo>
                <a:lnTo>
                  <a:pt x="26682" y="9877"/>
                </a:lnTo>
                <a:lnTo>
                  <a:pt x="26299" y="10243"/>
                </a:lnTo>
                <a:lnTo>
                  <a:pt x="25385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on change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erine li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nts Happened after Fertiliz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um is fertilized at the ovi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tilized ovum is carried to the uteru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eating cilia on the inner wall of ovi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raction of muscles of ovi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reaching the uterus, the fertilized ovum fixed firmly onto the thick uterine 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pla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evelopment of Human Foet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embryo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5105520" cy="4713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048120" y="2819520"/>
            <a:ext cx="1752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1906920" y="2514600"/>
            <a:ext cx="11484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3276720"/>
            <a:ext cx="3276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2880" y="2971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96252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8120" y="3657600"/>
            <a:ext cx="14655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464832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410080" y="3885840"/>
            <a:ext cx="533520" cy="762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7240" y="4343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mbilical 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518148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10080" y="47242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41680" y="487692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n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2361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10080" y="4647960"/>
            <a:ext cx="152424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560" y="5410080"/>
            <a:ext cx="23068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niotic fl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6019920"/>
            <a:ext cx="1600200" cy="609480"/>
          </a:xfrm>
          <a:custGeom>
            <a:avLst/>
            <a:gdLst>
              <a:gd name="textAreaLeft" fmla="*/ 39240 w 1600200"/>
              <a:gd name="textAreaRight" fmla="*/ 1560960 w 16002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6690" h="21600">
                <a:moveTo>
                  <a:pt x="0" y="0"/>
                </a:moveTo>
                <a:lnTo>
                  <a:pt x="56690" y="0"/>
                </a:lnTo>
                <a:lnTo>
                  <a:pt x="56690" y="21600"/>
                </a:lnTo>
                <a:lnTo>
                  <a:pt x="0" y="21600"/>
                </a:lnTo>
                <a:close/>
              </a:path>
              <a:path fill="lightenLess" w="56690" h="21600">
                <a:moveTo>
                  <a:pt x="0" y="0"/>
                </a:moveTo>
                <a:lnTo>
                  <a:pt x="56690" y="0"/>
                </a:lnTo>
                <a:lnTo>
                  <a:pt x="55290" y="1400"/>
                </a:lnTo>
                <a:lnTo>
                  <a:pt x="1400" y="1400"/>
                </a:lnTo>
                <a:close/>
              </a:path>
              <a:path fill="darken" w="56690" h="21600">
                <a:moveTo>
                  <a:pt x="56690" y="0"/>
                </a:moveTo>
                <a:lnTo>
                  <a:pt x="56690" y="21600"/>
                </a:lnTo>
                <a:lnTo>
                  <a:pt x="55290" y="20200"/>
                </a:lnTo>
                <a:lnTo>
                  <a:pt x="55290" y="1400"/>
                </a:lnTo>
                <a:close/>
              </a:path>
              <a:path fill="darkenLess" w="56690" h="21600">
                <a:moveTo>
                  <a:pt x="56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90" y="20200"/>
                </a:lnTo>
                <a:close/>
              </a:path>
              <a:path fill="lighten" w="56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90" h="21600">
                <a:moveTo>
                  <a:pt x="21339" y="3794"/>
                </a:moveTo>
                <a:lnTo>
                  <a:pt x="35352" y="10800"/>
                </a:lnTo>
                <a:lnTo>
                  <a:pt x="21339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6019920"/>
            <a:ext cx="2210040" cy="838080"/>
          </a:xfrm>
          <a:custGeom>
            <a:avLst/>
            <a:gdLst>
              <a:gd name="textAreaLeft" fmla="*/ 54000 w 2210040"/>
              <a:gd name="textAreaRight" fmla="*/ 2156040 w 2210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45" h="21600">
                <a:moveTo>
                  <a:pt x="0" y="0"/>
                </a:moveTo>
                <a:lnTo>
                  <a:pt x="56945" y="0"/>
                </a:lnTo>
                <a:lnTo>
                  <a:pt x="56945" y="21600"/>
                </a:lnTo>
                <a:lnTo>
                  <a:pt x="0" y="21600"/>
                </a:lnTo>
                <a:close/>
              </a:path>
              <a:path fill="lightenLess" w="56945" h="21600">
                <a:moveTo>
                  <a:pt x="0" y="0"/>
                </a:moveTo>
                <a:lnTo>
                  <a:pt x="56945" y="0"/>
                </a:lnTo>
                <a:lnTo>
                  <a:pt x="55545" y="1400"/>
                </a:lnTo>
                <a:lnTo>
                  <a:pt x="1400" y="1400"/>
                </a:lnTo>
                <a:close/>
              </a:path>
              <a:path fill="darken" w="56945" h="21600">
                <a:moveTo>
                  <a:pt x="56945" y="0"/>
                </a:moveTo>
                <a:lnTo>
                  <a:pt x="56945" y="21600"/>
                </a:lnTo>
                <a:lnTo>
                  <a:pt x="55545" y="20200"/>
                </a:lnTo>
                <a:lnTo>
                  <a:pt x="55545" y="1400"/>
                </a:lnTo>
                <a:close/>
              </a:path>
              <a:path fill="darkenLess" w="56945" h="21600">
                <a:moveTo>
                  <a:pt x="56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45" y="20200"/>
                </a:lnTo>
                <a:close/>
              </a:path>
              <a:path fill="lighten" w="56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45" h="21600">
                <a:moveTo>
                  <a:pt x="21466" y="7301"/>
                </a:moveTo>
                <a:lnTo>
                  <a:pt x="22380" y="7301"/>
                </a:lnTo>
                <a:lnTo>
                  <a:pt x="22763" y="7667"/>
                </a:lnTo>
                <a:lnTo>
                  <a:pt x="31971" y="7667"/>
                </a:lnTo>
                <a:lnTo>
                  <a:pt x="32528" y="8224"/>
                </a:lnTo>
                <a:lnTo>
                  <a:pt x="32528" y="8772"/>
                </a:lnTo>
                <a:lnTo>
                  <a:pt x="34373" y="8772"/>
                </a:lnTo>
                <a:lnTo>
                  <a:pt x="34739" y="8224"/>
                </a:lnTo>
                <a:lnTo>
                  <a:pt x="35479" y="8224"/>
                </a:lnTo>
                <a:lnTo>
                  <a:pt x="35479" y="13376"/>
                </a:lnTo>
                <a:lnTo>
                  <a:pt x="34739" y="13376"/>
                </a:lnTo>
                <a:lnTo>
                  <a:pt x="34373" y="12828"/>
                </a:lnTo>
                <a:lnTo>
                  <a:pt x="32528" y="12828"/>
                </a:lnTo>
                <a:lnTo>
                  <a:pt x="32528" y="14107"/>
                </a:lnTo>
                <a:lnTo>
                  <a:pt x="22945" y="14107"/>
                </a:lnTo>
                <a:lnTo>
                  <a:pt x="22945" y="9877"/>
                </a:lnTo>
                <a:lnTo>
                  <a:pt x="22763" y="9877"/>
                </a:lnTo>
                <a:lnTo>
                  <a:pt x="22380" y="10243"/>
                </a:lnTo>
                <a:lnTo>
                  <a:pt x="21466" y="10243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deo on foet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the Uter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uring embryo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 the embry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 constant environment for the embryo to devel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 placenta to attach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uring birth of ba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sh the baby out by muscular cont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10800"/>
                </a:moveTo>
                <a:lnTo>
                  <a:pt x="29677" y="3794"/>
                </a:lnTo>
                <a:lnTo>
                  <a:pt x="2967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exual Reproduction in Huma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9880" y="1219320"/>
            <a:ext cx="95184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8320" y="2209680"/>
            <a:ext cx="1265760" cy="520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2040" y="1219320"/>
            <a:ext cx="105084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7120" y="2209680"/>
            <a:ext cx="169416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ggs (ov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7280" y="3200400"/>
            <a:ext cx="11484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yg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040" y="4114800"/>
            <a:ext cx="134496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bry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7640" y="5105520"/>
            <a:ext cx="109044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6095880"/>
            <a:ext cx="933480" cy="520560"/>
          </a:xfrm>
          <a:prstGeom prst="rect">
            <a:avLst/>
          </a:prstGeom>
          <a:solidFill>
            <a:srgbClr val="3163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752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17524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289548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74320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89548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2743200"/>
            <a:ext cx="0" cy="152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73392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6483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5638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1752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7524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5440" y="22860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title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2819160" cy="2101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57800" y="2971800"/>
            <a:ext cx="3886200" cy="2819520"/>
          </a:xfrm>
          <a:prstGeom prst="cloudCallout">
            <a:avLst>
              <a:gd name="adj1" fmla="val -57842"/>
              <a:gd name="adj2" fmla="val 6999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AD001586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1067040" cy="1030320"/>
          </a:xfrm>
          <a:prstGeom prst="rect">
            <a:avLst/>
          </a:prstGeom>
          <a:ln w="0">
            <a:noFill/>
          </a:ln>
        </p:spPr>
      </p:pic>
      <p:pic>
        <p:nvPicPr>
          <p:cNvPr id="128" name="AD001585" descr=""/>
          <p:cNvPicPr/>
          <p:nvPr/>
        </p:nvPicPr>
        <p:blipFill>
          <a:blip r:embed="rId3"/>
          <a:stretch/>
        </p:blipFill>
        <p:spPr>
          <a:xfrm>
            <a:off x="6934320" y="990720"/>
            <a:ext cx="7808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the Amniotic Flui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keep the foetus moist to prevent dess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water cushion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port the fo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ow it to move fre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bsorb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tect the foetus from mechanical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reduce temperature fluc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lubricate the vagina during bi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7391520" y="58672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placenta" descr=""/>
          <p:cNvPicPr/>
          <p:nvPr/>
        </p:nvPicPr>
        <p:blipFill>
          <a:blip r:embed="rId1"/>
          <a:stretch/>
        </p:blipFill>
        <p:spPr>
          <a:xfrm>
            <a:off x="4983120" y="28440"/>
            <a:ext cx="4160880" cy="6829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4647960" y="762120"/>
            <a:ext cx="20574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114800" y="762120"/>
            <a:ext cx="53352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390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xygenated blood from mother’s ar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419720" y="2743200"/>
            <a:ext cx="213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2438280"/>
            <a:ext cx="39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l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572000" y="3886200"/>
            <a:ext cx="2743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3581280"/>
            <a:ext cx="39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mbilical v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571640" y="4495680"/>
            <a:ext cx="2438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4191120"/>
            <a:ext cx="390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mbilical ar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723920" y="914400"/>
            <a:ext cx="3124440" cy="466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190760" y="1380960"/>
            <a:ext cx="533160" cy="600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1523880"/>
            <a:ext cx="390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oxygenated blood to mother’s v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the Plac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place of exchange of materials between mother and the foet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ecreting horm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aptations of the Plac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ger-like vil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increase the surface area for efficient dif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nal blood and foetal blood flows in opposite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peed up diffusion of materials between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nal blood capillaries and foetal blood capillaries are separated by thin membra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horten the distance of diffusion of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daptations of the Placen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ternal blood is separated from foetal blood by capillary w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vent high pressure of maternal blood to break the delicate foetal blood vess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vent harmful substances to enter the fo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vent clotting of maternal and foetal blood if their blood groups are incompat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1600200" cy="762120"/>
          </a:xfrm>
          <a:custGeom>
            <a:avLst/>
            <a:gdLst>
              <a:gd name="textAreaLeft" fmla="*/ 49320 w 1600200"/>
              <a:gd name="textAreaRight" fmla="*/ 1550880 w 1600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5342" h="21600">
                <a:moveTo>
                  <a:pt x="0" y="0"/>
                </a:moveTo>
                <a:lnTo>
                  <a:pt x="45342" y="0"/>
                </a:lnTo>
                <a:lnTo>
                  <a:pt x="45342" y="21600"/>
                </a:lnTo>
                <a:lnTo>
                  <a:pt x="0" y="21600"/>
                </a:lnTo>
                <a:close/>
              </a:path>
              <a:path fill="lightenLess" w="45342" h="21600">
                <a:moveTo>
                  <a:pt x="0" y="0"/>
                </a:moveTo>
                <a:lnTo>
                  <a:pt x="45342" y="0"/>
                </a:lnTo>
                <a:lnTo>
                  <a:pt x="43942" y="1400"/>
                </a:lnTo>
                <a:lnTo>
                  <a:pt x="1400" y="1400"/>
                </a:lnTo>
                <a:close/>
              </a:path>
              <a:path fill="darken" w="45342" h="21600">
                <a:moveTo>
                  <a:pt x="45342" y="0"/>
                </a:moveTo>
                <a:lnTo>
                  <a:pt x="45342" y="21600"/>
                </a:lnTo>
                <a:lnTo>
                  <a:pt x="43942" y="20200"/>
                </a:lnTo>
                <a:lnTo>
                  <a:pt x="43942" y="1400"/>
                </a:lnTo>
                <a:close/>
              </a:path>
              <a:path fill="darkenLess" w="45342" h="21600">
                <a:moveTo>
                  <a:pt x="45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42" y="20200"/>
                </a:lnTo>
                <a:close/>
              </a:path>
              <a:path fill="lighten" w="45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342" h="21600">
                <a:moveTo>
                  <a:pt x="15664" y="10800"/>
                </a:moveTo>
                <a:lnTo>
                  <a:pt x="29677" y="3794"/>
                </a:lnTo>
                <a:lnTo>
                  <a:pt x="2967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irth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set of lab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terine muscles begin to make rhythmic contr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ions gradually become stronger and clo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birth10001" descr=""/>
          <p:cNvPicPr/>
          <p:nvPr/>
        </p:nvPicPr>
        <p:blipFill>
          <a:blip r:embed="rId1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83" name="birth20001" descr=""/>
          <p:cNvPicPr/>
          <p:nvPr/>
        </p:nvPicPr>
        <p:blipFill>
          <a:blip r:embed="rId2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417920" y="327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he Birth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tion of cervix allow the head of the foetus to pass thr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birth30001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85800" y="762120"/>
            <a:ext cx="3657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terine contractions causes amnion to break and amniotic fluid to escape out of the va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birth50001" descr=""/>
          <p:cNvPicPr/>
          <p:nvPr/>
        </p:nvPicPr>
        <p:blipFill>
          <a:blip r:embed="rId3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0" name="birth40001" descr=""/>
          <p:cNvPicPr/>
          <p:nvPr/>
        </p:nvPicPr>
        <p:blipFill>
          <a:blip r:embed="rId4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1" name="birth20001" descr=""/>
          <p:cNvPicPr/>
          <p:nvPr/>
        </p:nvPicPr>
        <p:blipFill>
          <a:blip r:embed="rId5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85800" y="762120"/>
            <a:ext cx="38862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cular contractions push the foetus head first through the vagina, and the umbilical cord is cut and t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birth50001" descr=""/>
          <p:cNvPicPr/>
          <p:nvPr/>
        </p:nvPicPr>
        <p:blipFill>
          <a:blip r:embed="rId6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4" name="birth60001" descr=""/>
          <p:cNvPicPr/>
          <p:nvPr/>
        </p:nvPicPr>
        <p:blipFill>
          <a:blip r:embed="rId7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5" name="birth70001" descr=""/>
          <p:cNvPicPr/>
          <p:nvPr/>
        </p:nvPicPr>
        <p:blipFill>
          <a:blip r:embed="rId8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6" name="birth80001" descr=""/>
          <p:cNvPicPr/>
          <p:nvPr/>
        </p:nvPicPr>
        <p:blipFill>
          <a:blip r:embed="rId9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97" name="birth90001" descr=""/>
          <p:cNvPicPr/>
          <p:nvPr/>
        </p:nvPicPr>
        <p:blipFill>
          <a:blip r:embed="rId10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5800" y="762120"/>
            <a:ext cx="40384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ther contractions push the placenta out of the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birt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28600" y="457200"/>
            <a:ext cx="868680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Could you survive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after birth without</a:t>
            </a:r>
            <a:endParaRPr b="0" lang="en-US" sz="4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 care of your</a:t>
            </a:r>
            <a:endParaRPr b="0" lang="en-US" sz="44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parents?</a:t>
            </a:r>
            <a:endParaRPr b="0" lang="en-US" sz="4400" spc="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00" name="Z4590" descr=""/>
          <p:cNvPicPr/>
          <p:nvPr/>
        </p:nvPicPr>
        <p:blipFill>
          <a:blip r:embed="rId9"/>
          <a:stretch/>
        </p:blipFill>
        <p:spPr>
          <a:xfrm>
            <a:off x="2235240" y="668160"/>
            <a:ext cx="491652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LP00055" descr=""/>
          <p:cNvPicPr/>
          <p:nvPr/>
        </p:nvPicPr>
        <p:blipFill>
          <a:blip r:embed="rId1"/>
          <a:stretch/>
        </p:blipFill>
        <p:spPr>
          <a:xfrm>
            <a:off x="5638680" y="2514600"/>
            <a:ext cx="3505320" cy="3443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arental Ca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crease the chance of survival of the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her feeds milk to the ba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lk provides the babies with a balanced d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also contains antibodies which defend the babies against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irth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uman population increases exponent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storage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 of pollution becomes more ser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growth%20of%20population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56386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0" name="Male%20reproductive%20system%201" descr=""/>
          <p:cNvPicPr/>
          <p:nvPr/>
        </p:nvPicPr>
        <p:blipFill>
          <a:blip r:embed="rId1"/>
          <a:srcRect l="0" t="0" r="26380" b="0"/>
          <a:stretch/>
        </p:blipFill>
        <p:spPr>
          <a:xfrm>
            <a:off x="4038480" y="1004760"/>
            <a:ext cx="5105520" cy="5853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29000" y="6172200"/>
            <a:ext cx="1828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5680" y="5867280"/>
            <a:ext cx="9518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562720"/>
            <a:ext cx="1981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5400" y="5257800"/>
            <a:ext cx="18417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ididym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724280"/>
            <a:ext cx="2133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191120"/>
            <a:ext cx="220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s deferens (sperm du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867280"/>
            <a:ext cx="1752480" cy="762120"/>
          </a:xfrm>
          <a:custGeom>
            <a:avLst/>
            <a:gdLst>
              <a:gd name="textAreaLeft" fmla="*/ 49320 w 1752480"/>
              <a:gd name="textAreaRight" fmla="*/ 1703160 w 1752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56" h="21600">
                <a:moveTo>
                  <a:pt x="0" y="0"/>
                </a:moveTo>
                <a:lnTo>
                  <a:pt x="49656" y="0"/>
                </a:lnTo>
                <a:lnTo>
                  <a:pt x="49656" y="21600"/>
                </a:lnTo>
                <a:lnTo>
                  <a:pt x="0" y="21600"/>
                </a:lnTo>
                <a:close/>
              </a:path>
              <a:path fill="lightenLess" w="49656" h="21600">
                <a:moveTo>
                  <a:pt x="0" y="0"/>
                </a:moveTo>
                <a:lnTo>
                  <a:pt x="49656" y="0"/>
                </a:lnTo>
                <a:lnTo>
                  <a:pt x="48256" y="1400"/>
                </a:lnTo>
                <a:lnTo>
                  <a:pt x="1400" y="1400"/>
                </a:lnTo>
                <a:close/>
              </a:path>
              <a:path fill="darken" w="49656" h="21600">
                <a:moveTo>
                  <a:pt x="49656" y="0"/>
                </a:moveTo>
                <a:lnTo>
                  <a:pt x="49656" y="21600"/>
                </a:lnTo>
                <a:lnTo>
                  <a:pt x="48256" y="20200"/>
                </a:lnTo>
                <a:lnTo>
                  <a:pt x="48256" y="1400"/>
                </a:lnTo>
                <a:close/>
              </a:path>
              <a:path fill="darkenLess" w="49656" h="21600">
                <a:moveTo>
                  <a:pt x="496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56" y="20200"/>
                </a:lnTo>
                <a:close/>
              </a:path>
              <a:path fill="lighten" w="496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656" h="21600">
                <a:moveTo>
                  <a:pt x="17821" y="3794"/>
                </a:moveTo>
                <a:lnTo>
                  <a:pt x="31834" y="10800"/>
                </a:lnTo>
                <a:lnTo>
                  <a:pt x="17821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990720" y="1066680"/>
            <a:ext cx="78483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 can we do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Using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ontracep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ethods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hythm Meth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copulation during 7 days before and after ovulation (fertile perio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rhythm%20method%201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514600" cy="4952880"/>
          </a:xfrm>
          <a:prstGeom prst="rect">
            <a:avLst/>
          </a:prstGeom>
          <a:ln w="0">
            <a:noFill/>
          </a:ln>
        </p:spPr>
      </p:pic>
      <p:pic>
        <p:nvPicPr>
          <p:cNvPr id="312" name="rhythm%20method%202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998640" cy="4952880"/>
          </a:xfrm>
          <a:prstGeom prst="rect">
            <a:avLst/>
          </a:prstGeom>
          <a:ln w="0">
            <a:noFill/>
          </a:ln>
        </p:spPr>
      </p:pic>
      <p:pic>
        <p:nvPicPr>
          <p:cNvPr id="313" name="rhythm%20method%203" descr=""/>
          <p:cNvPicPr/>
          <p:nvPr/>
        </p:nvPicPr>
        <p:blipFill>
          <a:blip r:embed="rId3"/>
          <a:stretch/>
        </p:blipFill>
        <p:spPr>
          <a:xfrm flipH="1">
            <a:off x="4114440" y="1905120"/>
            <a:ext cx="996840" cy="4952880"/>
          </a:xfrm>
          <a:prstGeom prst="rect">
            <a:avLst/>
          </a:prstGeom>
          <a:ln w="0">
            <a:noFill/>
          </a:ln>
        </p:spPr>
      </p:pic>
      <p:pic>
        <p:nvPicPr>
          <p:cNvPr id="314" name="rhythm%20method%204" descr=""/>
          <p:cNvPicPr/>
          <p:nvPr/>
        </p:nvPicPr>
        <p:blipFill>
          <a:blip r:embed="rId4"/>
          <a:stretch/>
        </p:blipFill>
        <p:spPr>
          <a:xfrm flipH="1">
            <a:off x="5105520" y="1905120"/>
            <a:ext cx="1828800" cy="4952880"/>
          </a:xfrm>
          <a:prstGeom prst="rect">
            <a:avLst/>
          </a:prstGeom>
          <a:ln w="0">
            <a:noFill/>
          </a:ln>
        </p:spPr>
      </p:pic>
      <p:pic>
        <p:nvPicPr>
          <p:cNvPr id="315" name="rhythm%20method%205" descr=""/>
          <p:cNvPicPr/>
          <p:nvPr/>
        </p:nvPicPr>
        <p:blipFill>
          <a:blip r:embed="rId5"/>
          <a:stretch/>
        </p:blipFill>
        <p:spPr>
          <a:xfrm>
            <a:off x="6934320" y="1905120"/>
            <a:ext cx="1346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do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 and female cond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barrier to prevent sperms from entering the va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condom" descr=""/>
          <p:cNvPicPr/>
          <p:nvPr/>
        </p:nvPicPr>
        <p:blipFill>
          <a:blip r:embed="rId1"/>
          <a:stretch/>
        </p:blipFill>
        <p:spPr>
          <a:xfrm>
            <a:off x="3429000" y="3108240"/>
            <a:ext cx="57150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tted over the cerv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 used together with spermic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diaphragm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603600" cy="3733920"/>
          </a:xfrm>
          <a:prstGeom prst="rect">
            <a:avLst/>
          </a:prstGeom>
          <a:ln w="0">
            <a:noFill/>
          </a:ln>
        </p:spPr>
      </p:pic>
      <p:pic>
        <p:nvPicPr>
          <p:cNvPr id="322" name="diaphragm%202" descr=""/>
          <p:cNvPicPr/>
          <p:nvPr/>
        </p:nvPicPr>
        <p:blipFill>
          <a:blip r:embed="rId2"/>
          <a:stretch/>
        </p:blipFill>
        <p:spPr>
          <a:xfrm>
            <a:off x="4191120" y="3105000"/>
            <a:ext cx="44193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ntraceptive Pil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s hormones which inhibit ov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taken regul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sid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contraceptive%20pills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6960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urgical Metho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7" name="surgical%20methods" descr=""/>
          <p:cNvPicPr/>
          <p:nvPr/>
        </p:nvPicPr>
        <p:blipFill>
          <a:blip r:embed="rId1"/>
          <a:stretch/>
        </p:blipFill>
        <p:spPr>
          <a:xfrm>
            <a:off x="0" y="2416320"/>
            <a:ext cx="9144000" cy="44416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28600" y="9144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Times New Roman"/>
              </a:rPr>
              <a:t>Vasec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tting and tying of sperm 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8380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Times New Roman"/>
              </a:rPr>
              <a:t>Tubal l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tting and tying of ovi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production of male gametes (sper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production of male sex horm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10800"/>
                </a:moveTo>
                <a:lnTo>
                  <a:pt x="30758" y="3794"/>
                </a:lnTo>
                <a:lnTo>
                  <a:pt x="3075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pididy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emporarily storage of sp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copulation, muscles of epididymis contract to release sp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10800"/>
                </a:moveTo>
                <a:lnTo>
                  <a:pt x="30758" y="3794"/>
                </a:lnTo>
                <a:lnTo>
                  <a:pt x="3075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Testis and epididy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CS002262" descr=""/>
          <p:cNvPicPr/>
          <p:nvPr/>
        </p:nvPicPr>
        <p:blipFill>
          <a:blip r:embed="rId1"/>
          <a:stretch/>
        </p:blipFill>
        <p:spPr>
          <a:xfrm>
            <a:off x="4468680" y="990720"/>
            <a:ext cx="4675320" cy="5867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05320" y="5715000"/>
            <a:ext cx="3276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1840" y="541008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rm tub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1219320"/>
            <a:ext cx="28191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4960" y="91440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pididym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2666880"/>
            <a:ext cx="1143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362320"/>
            <a:ext cx="22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s deferens (sperm du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Male%20reproductive%20system%202" descr=""/>
          <p:cNvPicPr/>
          <p:nvPr/>
        </p:nvPicPr>
        <p:blipFill>
          <a:blip r:embed="rId1"/>
          <a:srcRect l="0" t="0" r="28904" b="0"/>
          <a:stretch/>
        </p:blipFill>
        <p:spPr>
          <a:xfrm>
            <a:off x="4011480" y="870120"/>
            <a:ext cx="5132520" cy="5987880"/>
          </a:xfrm>
          <a:prstGeom prst="rect">
            <a:avLst/>
          </a:prstGeom>
          <a:ln w="0">
            <a:noFill/>
          </a:ln>
        </p:spPr>
      </p:pic>
      <p:pic>
        <p:nvPicPr>
          <p:cNvPr id="154" name="Male%20reproductive%20system%203" descr=""/>
          <p:cNvPicPr/>
          <p:nvPr/>
        </p:nvPicPr>
        <p:blipFill>
          <a:blip r:embed="rId2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5" name="Male%20reproductive%20system%204" descr=""/>
          <p:cNvPicPr/>
          <p:nvPr/>
        </p:nvPicPr>
        <p:blipFill>
          <a:blip r:embed="rId3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6" name="Male%20reproductive%20system%205" descr=""/>
          <p:cNvPicPr/>
          <p:nvPr/>
        </p:nvPicPr>
        <p:blipFill>
          <a:blip r:embed="rId4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7" name="Male%20reproductive%20system%206" descr=""/>
          <p:cNvPicPr/>
          <p:nvPr/>
        </p:nvPicPr>
        <p:blipFill>
          <a:blip r:embed="rId5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8" name="Male%20reproductive%20system%207" descr=""/>
          <p:cNvPicPr/>
          <p:nvPr/>
        </p:nvPicPr>
        <p:blipFill>
          <a:blip r:embed="rId6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pic>
        <p:nvPicPr>
          <p:cNvPr id="159" name="Male%20reproductive%20system%208" descr=""/>
          <p:cNvPicPr/>
          <p:nvPr/>
        </p:nvPicPr>
        <p:blipFill>
          <a:blip r:embed="rId7"/>
          <a:srcRect l="0" t="0" r="27962" b="0"/>
          <a:stretch/>
        </p:blipFill>
        <p:spPr>
          <a:xfrm>
            <a:off x="4038480" y="874800"/>
            <a:ext cx="5105520" cy="598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05320" y="3429000"/>
            <a:ext cx="4572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36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minal ves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267080"/>
            <a:ext cx="28195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3809880"/>
            <a:ext cx="14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state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5181480"/>
            <a:ext cx="28195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00800" y="4647960"/>
            <a:ext cx="609480" cy="5331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724280"/>
            <a:ext cx="166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wper’s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97180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581280"/>
            <a:ext cx="166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rete seminal fl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Functions of Seminal Flui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medium for the sperms to sw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ctivate and nourish the sp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neutralize the acidity in the female reproductive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5105520"/>
            <a:ext cx="28954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perm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9880" y="4724280"/>
            <a:ext cx="2057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m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luid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5638680"/>
            <a:ext cx="6098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76720" y="5181480"/>
            <a:ext cx="533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+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0" y="4952880"/>
            <a:ext cx="2057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me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Male%20reproductive%20system%209" descr=""/>
          <p:cNvPicPr/>
          <p:nvPr/>
        </p:nvPicPr>
        <p:blipFill>
          <a:blip r:embed="rId1"/>
          <a:srcRect l="0" t="0" r="29035" b="0"/>
          <a:stretch/>
        </p:blipFill>
        <p:spPr>
          <a:xfrm>
            <a:off x="4114800" y="874800"/>
            <a:ext cx="5029200" cy="5983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le Reproductive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26708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Male%20reproductive%20system%2010" descr=""/>
          <p:cNvPicPr/>
          <p:nvPr/>
        </p:nvPicPr>
        <p:blipFill>
          <a:blip r:embed="rId2"/>
          <a:srcRect l="0" t="0" r="29035" b="0"/>
          <a:stretch/>
        </p:blipFill>
        <p:spPr>
          <a:xfrm>
            <a:off x="4114800" y="874800"/>
            <a:ext cx="5029200" cy="598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29000" y="4572000"/>
            <a:ext cx="1295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533412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502920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11:39:30Z</dcterms:created>
  <dc:creator>Johnson Leung</dc:creator>
  <dc:description/>
  <dc:language>en-US</dc:language>
  <cp:lastModifiedBy>Johnson Leung</cp:lastModifiedBy>
  <dcterms:modified xsi:type="dcterms:W3CDTF">1998-12-04T15:00:04Z</dcterms:modified>
  <cp:revision>30</cp:revision>
  <dc:subject/>
  <dc:title>Reproduction</dc:title>
</cp:coreProperties>
</file>